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C0C-23C3-4EBC-AEBC-C84B7EB0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899-BB92-4945-97A2-FB9E87DC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F66-6767-41F2-8C2C-C50087E7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138-D3F3-495D-9BA9-4AF915DF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E8AC-3C0A-42D3-ACA7-8F4718BF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FFD9-01A9-4EB7-A973-1CB1D13C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DA12-3226-466A-805A-D1911E80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E06D-8591-4414-BA17-5E3A565A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23DE-2FA9-4E50-A684-3BEC861E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4146-2B28-47E5-BC52-0667B6DD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7EDB-C483-42F1-8C93-61C9D6E1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982-7530-43F3-AD0D-3DDAD276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89C1-0D15-4D6F-9BD0-CD04AF41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704B-9194-42E6-85A6-3FB0757C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97C1-EE00-4135-85C1-5454AE32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DACC-74F0-4152-BCA6-E7EF89BB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CA33-ACC9-4456-B5FB-0A880A39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6A8-730B-4697-B855-27BFBE23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F09-4361-4643-A17F-1EE0C08D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1DB-6C48-4183-B910-EE91EFF2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194-A7FE-4AF5-8E55-10B40873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1FB-9398-455D-A974-688C2CE2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3EB-07C9-4109-93AC-7840304F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E36-BFFE-4CBA-8AB1-660FF795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FEBD-44C4-4328-AA07-301F0E6B4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A228-3DAF-492A-AE08-BA38C753D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oot Cause Analysis of P4V Release 2008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1142640"/>
            <a:ext cx="5638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that are new functionality in P4V 2008.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32763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ine-Diff              Roll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Out                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1447920"/>
            <a:ext cx="5562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maining Categories that have Test Plans in P4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3580920"/>
            <a:ext cx="7010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      Find File    Depo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           Tool-Tips   Change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sh         Workspace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ch Spec Merge-D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our obj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what QA can do better to find bugs before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root cause of bugs being found by customers before Q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occurs after P4V has been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2008.2 B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Reports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2008.2 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Reports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1523880"/>
            <a:ext cx="57913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QA determine which bugs customers have report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4419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ct Removal Efficienc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6094440" cy="70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5280"/>
            <a:ext cx="5410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QA find bugs in P4V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3505320"/>
            <a:ext cx="7010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unning test cases of test p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ing jo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53352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4V has been broken into categori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29718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43200" y="1828800"/>
            <a:ext cx="3657600" cy="85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for jobs from DRE repo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-Root         SQL-Server      Text-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             Jobs                 Integ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-Diff        UI                     PassW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-Line Tool-Tip           Inline-D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File            Changelist       Ro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t Tree        Performance    Back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pace Tree Branch Spec   Cra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not listed under P4V test pl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28951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-Server    Text-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                   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-Root        Pass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9:18:40Z</dcterms:created>
  <dc:creator>Office 2004 Test Drive amitchell</dc:creator>
  <dc:description/>
  <dc:language>en-US</dc:language>
  <cp:lastModifiedBy>Office 2004 Test Drive amitchell</cp:lastModifiedBy>
  <cp:lastPrinted>2009-01-22T01:02:46Z</cp:lastPrinted>
  <dcterms:modified xsi:type="dcterms:W3CDTF">2009-01-23T22:06:12Z</dcterms:modified>
  <cp:revision>5</cp:revision>
  <dc:subject/>
  <dc:title>Root Cause Analysis of P4V Release 2008.2</dc:title>
</cp:coreProperties>
</file>