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968-6F81-43C9-827E-28BCF0D7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5ED-3413-4A78-9864-D7104204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06C-2F25-4BD5-AC22-0ED0B4FE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90B-9FF5-4222-A191-D34417D1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5CC1-6DC8-426C-BF81-BC3EEE87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580-93F2-4784-84B8-FF4811B8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1164-72D1-46AA-B951-5370FC41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FCE-2BDE-4A41-983A-142B21D3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843C-6AC1-4FF8-A7C6-CACC2FFF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138-6843-4A73-A4DD-9E08B9C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54ED-E2D9-41B4-89BF-F54279E7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933-50B1-4B80-A45C-7EFA078D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2AA9-D44F-4E26-993C-0AC1E3D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7A06-9763-4E69-9AE0-446886BA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170-BF83-4C67-8F28-64CCA2E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AD6B-4C8D-481D-87E8-0016AF56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C66D-6D51-4399-A1C7-0FB6EB52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22D-A884-467A-87C5-130E8112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1B3-24D8-43DF-9E2C-F073D211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D25-58BA-4425-B15A-A0397D2F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CF6-D2A5-4F41-9BC7-ED50DFD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CD1-5582-4230-BFCE-D2DAB53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216-DC90-4263-AA7E-0C7739A1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CB1-E601-4079-BD22-1C55721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AD8-3915-4C01-825C-A8A8E1A9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D99-C339-40CC-A15F-F5EAE563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ot Cause Analysis of P4V Release 2008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that are new functionality in P4V 2008.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32763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ine-Diff             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ut                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447920"/>
            <a:ext cx="5562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maining Categories that have Test Plans in P4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580920"/>
            <a:ext cx="7010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      Find File    Depo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          Tool-Tips   Chang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        Workspac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 Spec Merge-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our ob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what QA can do better to find bugs befor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root cause of bugs being found by customers before Q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ccurs after P4V has been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1523880"/>
            <a:ext cx="5791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determine which bugs customers have repor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4419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Removal Effici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09444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52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find bugs in P4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3505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nning test cases of tes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V has been broken into categor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65760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for jobs from DRE re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-Root         SQL-Server      Text-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             Jobs                 Inte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-Diff        UI                     Pas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Line Tool-Tip           Inline-D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ile            Changelist       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t Tree        Performance    B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pace Tree Branch Spec   Cr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not listed under P4V test pl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   Text-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                  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Root        Pas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8:40Z</dcterms:created>
  <dc:creator>Office 2004 Test Drive amitchell</dc:creator>
  <dc:description/>
  <dc:language>en-US</dc:language>
  <cp:lastModifiedBy>Office 2004 Test Drive amitchell</cp:lastModifiedBy>
  <cp:lastPrinted>2009-01-22T01:02:46Z</cp:lastPrinted>
  <dcterms:modified xsi:type="dcterms:W3CDTF">2009-01-23T22:06:12Z</dcterms:modified>
  <cp:revision>5</cp:revision>
  <dc:subject/>
  <dc:title>Root Cause Analysis of P4V Release 2008.2</dc:title>
</cp:coreProperties>
</file>