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A636-8822-4AE0-876D-0C92895B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2B63-5906-4B14-BA15-19C17EFD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7FE5-7AEA-4222-853A-6A4C9C10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E094-DD1D-4401-8BD1-7CAF7FC6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1181-2FD3-4EA4-91C8-0F22F8DB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89E0-0517-4EF4-844E-FB838B45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BF23-81D7-46E8-9A10-CE149287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F18D-D05A-4CF1-B180-F0F30D06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201F-AB3A-46BF-9F8B-46A0B944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7035-E84C-484A-9D11-6459E803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EA02-3F7C-4F7D-B3D1-972BB6BF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57A5-0555-426E-AC7F-6720FCEA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7B77-1100-47F1-8F7D-6169E3E8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EE32-A784-4D61-9619-AC30909F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BA5D-1A46-436C-9D99-19EA2496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1055-993B-4EB3-A033-8A32CD81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2BA3-3936-42C8-8AE8-6DD25B04F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15E1-193C-470B-881C-4B5B1F40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8EF1-83DC-48C9-B966-2136456F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D84B-4507-492C-8836-F99C7B1E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35E2-1E9A-4F23-AE5A-A6C0B5FB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DADF-3559-433A-A960-9988D499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BAE7-3820-438A-B7CB-3C3E7C04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E309-9BEE-44B6-B04D-859E1386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AD6C-4A6B-414E-9A22-59B7A3915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FC78-8DB2-4B71-8C65-2C97A39EC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oot Cause Analysis of P4V Release 2008.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440" y="1142640"/>
            <a:ext cx="5638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egories that are new functionality in P4V 2008.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3276360"/>
            <a:ext cx="7010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Line-Diff              Roll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Out                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400" y="1447920"/>
            <a:ext cx="55627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maining Categories that have Test Plans in P4V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7560" y="3580920"/>
            <a:ext cx="7010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       Find File    Depot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bs           Tool-Tips   Change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ash         Workspace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ch Spec Merge-D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our objec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out what QA can do better to find bugs before custo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out root cause of bugs being found by customers before Q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occurs after P4V has been relea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2008.2 B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 Reports B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2008.2 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 Reports B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80720" y="1523880"/>
            <a:ext cx="57913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QA determine which bugs customers have reported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47560" y="44197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ct Removal Efficiency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600200" y="1143000"/>
            <a:ext cx="6094440" cy="70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09320" y="1295280"/>
            <a:ext cx="54104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QA find bugs in P4V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560" y="3505320"/>
            <a:ext cx="7010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running test cases of test pl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ying jo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ident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80720" y="533520"/>
            <a:ext cx="5410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4V has been broken into categori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560" y="2971800"/>
            <a:ext cx="7010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743200" y="1828800"/>
            <a:ext cx="3657600" cy="85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egories for jobs from DRE repor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240" y="2514600"/>
            <a:ext cx="7162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-Root         SQL-Server      Text-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             Jobs                 Integ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e-Diff        UI                     PassW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-Line Tool-Tip           Inline-Di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File            Changelist       Roll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ot Tree        Performance    Back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pace Tree Branch Spec   Cra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egories not listed under P4V test pla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47560" y="28951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-Server    Text-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                   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-Root        PassW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9:18:40Z</dcterms:created>
  <dc:creator>Office 2004 Test Drive amitchell</dc:creator>
  <dc:description/>
  <dc:language>en-US</dc:language>
  <cp:lastModifiedBy>Office 2004 Test Drive amitchell</cp:lastModifiedBy>
  <cp:lastPrinted>2009-01-22T01:02:46Z</cp:lastPrinted>
  <dcterms:modified xsi:type="dcterms:W3CDTF">2009-01-23T22:06:12Z</dcterms:modified>
  <cp:revision>5</cp:revision>
  <dc:subject/>
  <dc:title>Root Cause Analysis of P4V Release 2008.2</dc:title>
</cp:coreProperties>
</file>