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E00-A643-4098-B083-644BC276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E98-E7BB-4028-83C2-93EB8A3B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A98-32F2-4157-9217-8F3A1693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21A-6DAF-4F41-8190-D66509E9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3F19-EEB8-4389-AF80-068C8B46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6B3B-5E71-4EFD-B9D9-E9592387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6118-3F97-4BC2-A25E-B2A5CC6E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625F-190D-4393-ACD7-A02F114C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78DE-8D2C-4D62-8B25-EF6C3085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5832-121B-414F-B11E-CD52CFF6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9E60-1392-44BD-ABF3-1C660F8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69A-6F8A-4126-B199-61FF278B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2709-7AEC-4020-9959-21DE87D6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3B26-B67F-434A-B267-030C2E3C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B5B1-895D-44A5-A2BD-725308CA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6FDF-22C1-4C32-9296-C580C920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FCD-12FC-4EAA-AC85-ACFF496F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DC3-9524-410F-8D40-014691C2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86B-4DAF-4627-BADC-56AAB046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FBF-6D16-47B5-873D-3B6973F2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09D-7DF3-47E2-A051-441B6D8C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7AD-6B57-4AF2-B35F-23B63C0C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E2D-2319-4F45-AFB1-50CA7609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722-914C-4ED5-886A-B2DA75F5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B1A7-A1E7-4CCF-8F42-5CC906B18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672F-3437-45E7-AA61-BE835C512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oot Cause Analysis of P4V Release 2008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114264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that are new functionality in P4V 2008.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32763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ine-Diff              Roll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ut                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1447920"/>
            <a:ext cx="5562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maining Categories that have Test Plans in P4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3580920"/>
            <a:ext cx="7010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      Find File    Depo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           Tool-Tips   Change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sh         Workspace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ch Spec Merge-D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our obj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what QA can do better to find bugs before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root cause of bugs being found by customers before Q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ccurs after P4V has been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2008.2 B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Reports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2008.2 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Reports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1523880"/>
            <a:ext cx="57913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QA determine which bugs customers have report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4419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 Removal Effici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6094440" cy="70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528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QA find bugs in P4V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35053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unning test cases of test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ing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53352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4V has been broken into categor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3657600" cy="85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for jobs from DRE rep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-Root         SQL-Server      Text-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             Jobs                 Integ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-Diff        UI                     Pass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-Line Tool-Tip           Inline-D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File            Changelist       Ro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t Tree        Performance    Bac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pace Tree Branch Spec   Cra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not listed under P4V test pl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28951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-Server    Text-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                   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-Root        Pass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18:40Z</dcterms:created>
  <dc:creator>Office 2004 Test Drive amitchell</dc:creator>
  <dc:description/>
  <dc:language>en-US</dc:language>
  <cp:lastModifiedBy>Office 2004 Test Drive amitchell</cp:lastModifiedBy>
  <cp:lastPrinted>2009-01-22T01:02:46Z</cp:lastPrinted>
  <dcterms:modified xsi:type="dcterms:W3CDTF">2009-01-23T22:06:12Z</dcterms:modified>
  <cp:revision>5</cp:revision>
  <dc:subject/>
  <dc:title>Root Cause Analysis of P4V Release 2008.2</dc:title>
</cp:coreProperties>
</file>