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7D9-F2FE-4498-9D6E-A30F204F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4DB-D7B6-4873-99D1-1629D955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55A-C89A-4E44-A002-F042FE0F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A06-4ABD-4068-8CC4-E89C1CFF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6583-194C-494A-A098-612BB0AC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5B23-3489-4903-B49C-365C8E8E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9343-F9DD-46A0-BC5C-A4518E61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9526-2066-401B-A9D1-8EBFE75D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8F44-2467-4795-8075-A76AB488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F670-09BA-495F-965F-7B5C435C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3A41-4116-43EC-AD14-96173D3B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08C-8371-4CEE-B919-69A1BD7C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6749-DD56-4064-B054-13B8184C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0DEA-D894-4FA9-96FC-4EB3158D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4DB0-93D8-438F-95D2-EDEAF20B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357A-F2C5-40BB-8725-483C3552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AA07-38B1-4849-A359-9C783667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288-CC35-4ED7-A13C-F68AD87C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8F3-6071-44FF-A1D5-17A8B22E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A41-1383-49E6-B24E-48960D58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299-3DFC-4755-B2AA-BC7B7883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C03-24CA-4753-857C-56908ADD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FCB-401E-4CD5-B968-E75ED34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4D5-A4C1-43CE-960F-E99E7293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D455-AFC1-4E50-9067-CE5D81A8A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D835-276E-4326-9AF9-2C8C66BEA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oot Cause Analysis of P4V Release 2008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1142640"/>
            <a:ext cx="5638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that are new functionality in P4V 2008.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32763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ine-Diff              Roll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Out                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1447920"/>
            <a:ext cx="5562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maining Categories that have Test Plans in P4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3580920"/>
            <a:ext cx="7010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      Find File    Depo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           Tool-Tips   Change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sh         Workspace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ch Spec Merge-D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our obj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what QA can do better to find bugs before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root cause of bugs being found by customers before Q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occurs after P4V has been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2008.2 B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Reports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2008.2 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Reports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1523880"/>
            <a:ext cx="57913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QA determine which bugs customers have report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4419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ct Removal Effici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6094440" cy="70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528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QA find bugs in P4V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3505320"/>
            <a:ext cx="7010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unning test cases of test p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ing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53352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4V has been broken into categori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43200" y="1828800"/>
            <a:ext cx="3657600" cy="85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for jobs from DRE repo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-Root         SQL-Server      Text-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             Jobs                 Integ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-Diff        UI                     PassW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-Line Tool-Tip           Inline-D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File            Changelist       Ro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t Tree        Performance    Bac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pace Tree Branch Spec   Cra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not listed under P4V test pl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28951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-Server    Text-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                   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-Root        Pass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18:40Z</dcterms:created>
  <dc:creator>Office 2004 Test Drive amitchell</dc:creator>
  <dc:description/>
  <dc:language>en-US</dc:language>
  <cp:lastModifiedBy>Office 2004 Test Drive amitchell</cp:lastModifiedBy>
  <cp:lastPrinted>2009-01-22T01:02:46Z</cp:lastPrinted>
  <dcterms:modified xsi:type="dcterms:W3CDTF">2009-01-23T22:06:12Z</dcterms:modified>
  <cp:revision>5</cp:revision>
  <dc:subject/>
  <dc:title>Root Cause Analysis of P4V Release 2008.2</dc:title>
</cp:coreProperties>
</file>