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efd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fffef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ef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77520" y="746280"/>
            <a:ext cx="5305320" cy="367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1800" y="93420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fffef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ef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774960" y="93420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fffef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19AA90-C86E-460B-8F78-AC332EDC1AC5}" type="slidenum">
              <a:rPr b="0" i="1" lang="en-GB" sz="1000" spc="-1" strike="noStrike">
                <a:solidFill>
                  <a:srgbClr val="fffef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77880" y="746280"/>
            <a:ext cx="5305320" cy="3673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set P4PORT=jade:16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77880" y="746280"/>
            <a:ext cx="5305320" cy="3673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set P4PORT=jade:16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677880" y="746280"/>
            <a:ext cx="5305320" cy="3673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set P4PORT=jade:16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77880" y="746280"/>
            <a:ext cx="5305320" cy="3673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set P4PORT=jade:16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77880" y="746280"/>
            <a:ext cx="5305320" cy="3673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set P4PORT=jade:16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77880" y="746280"/>
            <a:ext cx="5305320" cy="3673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set P4PORT=jade:16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677880" y="746280"/>
            <a:ext cx="5305320" cy="3673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set P4PORT=jade:16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677880" y="746280"/>
            <a:ext cx="5305320" cy="3673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set P4PORT=jade:16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77880" y="746280"/>
            <a:ext cx="5305320" cy="3673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set P4PORT=jade:16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677880" y="746280"/>
            <a:ext cx="5305320" cy="3673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set P4PORT=jade:16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53416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601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7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1720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910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910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910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019920"/>
            <a:ext cx="3886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ww.ttpcom.com PJA P4 UK User Group 14 Oct 2004  Page </a:t>
            </a:r>
            <a:fld id="{CAA69A53-FD3F-44F3-9942-4938A59028F3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486640" y="5956200"/>
            <a:ext cx="126684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838080"/>
            <a:ext cx="9906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095880"/>
            <a:ext cx="2919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ANY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ww.ttpcom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titlepage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6095880"/>
            <a:ext cx="2919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ww.ttpcom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906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800" algn="ctr">
              <a:spcBef>
                <a:spcPts val="451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4840" algn="ctr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24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force UK User Grou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560" y="3962520"/>
            <a:ext cx="6218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we can make it even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Octobe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logo" descr=""/>
          <p:cNvPicPr/>
          <p:nvPr/>
        </p:nvPicPr>
        <p:blipFill>
          <a:blip r:embed="rId1"/>
          <a:stretch/>
        </p:blipFill>
        <p:spPr>
          <a:xfrm>
            <a:off x="0" y="2971800"/>
            <a:ext cx="4267080" cy="6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5257800" cy="40719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pace Tool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efer not to use branches in many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9625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velop mainly on a shared cod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we have develop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up ope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 a chang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p up a changelist for peer review before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osting and Replication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aintain a ghost copy of the ma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backup and checkpointing so as not to disrupt work (24/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umber of servers are exposed to third parties (e.g. customers) in our D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we need to replicate changes across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ould also help to have a server mirroring the main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release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Your Views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24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force UK User Grou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80520" y="3505320"/>
            <a:ext cx="6218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logo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4572000" cy="7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53416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752480"/>
            <a:ext cx="8534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PCom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I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ering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Form 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op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te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pac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osting and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your view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PCom Context – 1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velop software and silicon designs for mobile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 Engineer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 - Melbourn and Guild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mark - Aalb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nce - Sofia Anti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 - Bo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na - Shanghai and Shenzen (near Hong K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7100t_medium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904840" cy="396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98880" y="525780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ww.blackber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PCom Context – 2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ce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e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lbourn, UK (5, three shared with third pa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ia Antipol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nzen,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xy servers in each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in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atabase - 22GB, depot - 45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2,000 transactions per hour at peak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e work mainly on a shared code-l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I Lik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working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custome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GUI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ering use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multipl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nd removing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phical admin tool would be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7242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Form Locking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Job Forms for tracking work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5181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efer doing this to introducing another package for bug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be able to lock a job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ame way as Clients, Label &amp; Branch sp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he owner can unlock th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3c08"/>
                </a:solidFill>
                <a:latin typeface="Arial"/>
              </a:rPr>
              <a:t>This is our Number One wish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38680" y="152280"/>
            <a:ext cx="40132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Operation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no idea how long they will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’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t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gh indication would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it take five minutes, an hour, five hou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rning before embarking on ‘large’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derstanding of how long other users will be ‘locked ou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terate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keep our main database t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bliterate be made ‘smarter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ff3e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base is not locked for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85760">
              <a:spcBef>
                <a:spcPts val="499"/>
              </a:spcBef>
              <a:buClr>
                <a:srgbClr val="ff3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trees can be obliterated in one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2:36:16Z</dcterms:created>
  <dc:creator>Mark Wharton</dc:creator>
  <dc:description/>
  <dc:language>en-US</dc:language>
  <cp:lastModifiedBy>Peter Anderson</cp:lastModifiedBy>
  <cp:lastPrinted>1998-04-23T13:33:56Z</cp:lastPrinted>
  <dcterms:modified xsi:type="dcterms:W3CDTF">2004-10-15T16:28:11Z</dcterms:modified>
  <cp:revision>49</cp:revision>
  <dc:subject/>
  <dc:title>Perforce: Getting started</dc:title>
</cp:coreProperties>
</file>