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1008-B535-4421-8219-E37DB079A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CD22-0609-4FDD-88BA-64ABD16A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6B21-829D-4FA9-AF58-06AD35CF7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FBEB-3CB3-42A7-AC75-98630D5C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B469-82B0-4F40-BCB9-AD8675953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0502-85B8-47B6-BADB-5E065A9E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1A1D-0F65-48EE-A030-E70630EC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6F11-6017-4F2F-A272-0FFC81A0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748C-58DC-4F0B-8278-70F96F1E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FCA5-D928-4DB6-BDF4-181C7D88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7ECD-B290-4D32-9903-C6517EE0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F9B2-2BAF-400C-A978-8058116B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6459-641F-4BD6-9E92-6CE67E63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A180-226F-4B1A-B6AE-FF7BFA15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6F7E-AB8B-4CC4-ABCB-13BBF20D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F1FB-CA9E-4DBB-8D26-700153501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AD57-2A35-4451-995E-CBBEE40F9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5643-9E47-48E0-AABF-4F122BDF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FFAD-E22F-4DAB-88B4-C466BE0E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8CA3-C17C-4195-95D6-39C6C76D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743C-E592-4D75-8863-1DAD8611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5DBE-06DA-4A47-B4DF-4AF80571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5D32-ACF3-4B89-ADA2-A7487081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D614-4AF6-47C0-99C1-E500B599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5B39-34D9-4884-8461-C3E4613CCB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BD5F-3515-41C9-A5AF-268773AACA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gilemanifesto.org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vance.com/steve/perforce/Branching_Strategies.html" TargetMode="External"/><Relationship Id="rId6" Type="http://schemas.openxmlformats.org/officeDocument/2006/relationships/hyperlink" Target="http://www.vance.com/steve/perforce/Branching_Strategies.html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figuration Management and the Principles and Values of Agile Software Develop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hen V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llar Adv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tober 14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mplicity Support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M tool saves overhead of manual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M tool has its own overhead, but less than manual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 integration simplifies SCM u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ified throu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sio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recovery of past rel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status tra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mplicity Appli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SCM patt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apply patterns that are immediately necessary or reasonably anticip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M refactoring harder than code refactoring suggests slightly more anticip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SCM tool facilities rather than external documentation to capture i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complex SCM patterns help Agile sc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eedba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t tests are a major component of developer feedback; SCM tool supports as the repository for this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s, triggers and review daemons enforce XP’s coding standards pract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yle che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ous integration test exec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ing coverage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ate reporting on change and development sta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ion with work tracking updates story comple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ur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M tool is the safety 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nches can support prototyping multiple alternatives without interfering with other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waway code” can be recover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actoring can be strongly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ce’s Inter-File Branch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™ allows a single file to branch to multiple targ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M tools and processes can support Agile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ile principles apply to create and streamline SCM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y Agile principles to create SCM implementations that support Agile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ifesto for Agile Software Development, </a:t>
            </a:r>
            <a:r>
              <a:rPr b="0" lang="en-US" sz="32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http://www.agilemanifesto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k, Kent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treme Programming Explained: Embrace Chan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ddison-Wesley, 2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nce, Stephen, “Advanced SCM Branching Strategies,” </a:t>
            </a:r>
            <a:r>
              <a:rPr b="0" lang="en-US" sz="3200" spc="-1" strike="noStrike" u="sng">
                <a:solidFill>
                  <a:srgbClr val="86d1ec"/>
                </a:solidFill>
                <a:uFillTx/>
                <a:latin typeface="Arial"/>
                <a:hlinkClick r:id="rId5"/>
              </a:rPr>
              <a:t>http://</a:t>
            </a:r>
            <a:r>
              <a:rPr b="0" lang="en-US" sz="3200" spc="-1" strike="noStrike" u="sng">
                <a:solidFill>
                  <a:srgbClr val="86d1ec"/>
                </a:solidFill>
                <a:uFillTx/>
                <a:latin typeface="Arial"/>
                <a:hlinkClick r:id="rId6"/>
              </a:rPr>
              <a:t>www.vance.com/steve/perforce/Branching_Strategies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gile Software Develop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ile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overh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ceremo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eme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SD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treme Programming (XP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i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ll-docume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philosophy with other Agile methods as captured in the Agile Manifes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ftware Configuration Manag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ile emphasizes “individuals and interactions over processes and tool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suggest SCM unimpor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P emphasizes low-technology 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ll-chosen SCM practices support and enhance Agile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XP’s Four Variab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sks affect variables; SCM helps address ri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XP’s Four Val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ed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M supports values; values guide SCM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unication Support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M tool is medium for communication through code supporting continuous integration and collective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M support for continuous inte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space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c frequen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 tests encapsulate requirements and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tion with IDE improves effici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unication Appli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use of S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imize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ory stru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tured in SCM reposi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nching poli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M tool can capture explan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ce branch spec Description fie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unication Applied (cont’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ilds denoted throu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list nu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e/time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ease bran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sk branches support sharing of larger s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9T06:51:07Z</dcterms:created>
  <dc:creator>Stephen Vance</dc:creator>
  <dc:description/>
  <dc:language>en-US</dc:language>
  <cp:lastModifiedBy>Stephen Vance</cp:lastModifiedBy>
  <dcterms:modified xsi:type="dcterms:W3CDTF">2004-10-14T08:02:55Z</dcterms:modified>
  <cp:revision>15</cp:revision>
  <dc:subject/>
  <dc:title>Configuration Management and the Principles and Values of Agile Software Develop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